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DAE-83B4-40CE-8CE5-63B296F7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ECE-86B2-4F5C-841B-80E7636B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B21-80EC-4538-8AEB-E9F1C010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752-36BC-4417-B292-24EC56E3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89BA-8924-4A3B-AD50-ADC2A169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0875-52A7-48D0-8024-0DFEB0E9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996B-D34F-4D1C-901D-1F082E64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F8BA-1C26-43C1-B592-B45CDF8B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C49A-2024-403E-BC1C-DA5BAE14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6D68-A52A-44E8-AA0D-77309562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1706-064C-401E-9B18-34963495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29A-10DF-4ADD-BDD0-C5391BC6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C02E-F939-48EE-B938-E853F273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1E3E-9842-494B-9A77-D76B4378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ECA0-EF57-4C4A-9FF5-B5645F09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B42F-68C0-4B6A-96FC-E59E9CD5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08A2-C660-4701-9292-6EF98B58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01DE-97B6-474D-AF22-1F612209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C834-7DA2-4DCF-9690-08815CDC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DF1B-DBC0-48DC-A29B-8CC62FE6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E977-EC85-4597-AE03-CFEEEC31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4BDF6-72E0-44CB-B04D-7BE52DB4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9FA-1EAA-4C77-B1A3-B077145A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057C-A933-4BB7-B917-7393526B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8EAD-4F52-417C-BF7C-E576A45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9538E-4360-45C8-9A05-1B96AF3E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27CC9-13B1-4A07-8A18-88904F1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92B3-3A02-4B7B-9075-38A307E4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88FD-9DE1-43C4-A19D-8CB5916A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6B47-6604-47EE-A997-5B24715D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7BC81-7D13-4D7B-981D-28C7A820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29B2-E270-4847-9C8A-8A0BD7EE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1DCF-ABE7-4E5C-AB43-61D67E05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414-AB8C-4412-A83C-72FDC758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A68B-159E-42BE-A52C-55935399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06BD5-DE3E-40F1-A73C-E4DA08F5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4307E-58A4-4E27-A292-340DCBC9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AB6F-8926-423E-A972-4F56AF98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00D87-C6AF-4DD4-8227-D42C970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A9A3B-E0D3-4E04-9B29-7159DE97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2697-0431-4107-986D-AA023BE7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617CA-92E4-477C-8048-9C900BC7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7AA5-5BFA-4AA0-B57A-98A4ACD6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814-120B-4AD2-95BE-E2F756D2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D0D-4D6E-4BAF-9C20-A86B8038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5DA-EC45-4EC6-8BBE-729512F3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11D-FB58-4934-9D9A-3961583C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9E1-253B-4323-9FEF-C4A8CCC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6BBB-26F8-45E3-8825-D2E6B0F4853E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CF8F-8CB8-4A72-9367-87DDBA4C791E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020E-0CA2-4ABD-A1BF-7C6717BA4368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D95B-EAC4-4550-9CFB-7816B835B5F9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428760" y="13572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unicación y evolución y Futuro d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¨Historia Internet:  Nacimiento 1-11-69 como red conmuta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unfo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rre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bles por IP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EB:    Primera década    WEB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gunda Década   WEB 2.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ercera Década      WEB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CuadroTexto"/>
          <p:cNvSpPr/>
          <p:nvPr/>
        </p:nvSpPr>
        <p:spPr>
          <a:xfrm>
            <a:off x="714240" y="1643040"/>
            <a:ext cx="77868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guntas sobre  el futur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fís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s 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lóg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físico a lo lóg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técnico a lo soc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Gratuita o de p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s universida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CuadroTexto"/>
          <p:cNvSpPr/>
          <p:nvPr/>
        </p:nvSpPr>
        <p:spPr>
          <a:xfrm>
            <a:off x="571680" y="128592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volución técnica hacia la WEB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SEMÁNTICA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ntologías, metadatos, RDF, OWL,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reduce la acción huma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Perso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Máquina-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 eras: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agrícola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0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onal-Industri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ndial-Informacion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50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Fin y paso 4ª e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CuadroTexto"/>
          <p:cNvSpPr/>
          <p:nvPr/>
        </p:nvSpPr>
        <p:spPr>
          <a:xfrm>
            <a:off x="714240" y="121428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WEB 4.0?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abidu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 locura de las masas a la sabiduría de las multitu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Hacia  el  “global brai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aul Fleming:  “La WEB 3.0 es un cambio de paradigma de páginas planas a una red de espacios, vivencias y autonomía del usuar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 CuadroTexto"/>
          <p:cNvSpPr/>
          <p:nvPr/>
        </p:nvSpPr>
        <p:spPr>
          <a:xfrm>
            <a:off x="42876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a la WEB 3.0 MÁS LOCAL O GLOB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gual evolución sistemas de información-informática en las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 CuadroTexto"/>
          <p:cNvSpPr/>
          <p:nvPr/>
        </p:nvSpPr>
        <p:spPr>
          <a:xfrm>
            <a:off x="571680" y="114300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nidad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Reduce las fronteras entre lo real y lo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lors Reig Hernández:   “El mundo y la WEB una sola co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ctuar  (PAUTA 3.0/UHU)        http://www.uhu.es/pau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42960" y="14288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-FORMACIÓN, 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ducación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profesor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alumnos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todos-tod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S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á bueno para las universidad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Constantia"/>
              </a:rPr>
              <a:t>Este es nuestro 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42:34Z</dcterms:created>
  <dc:creator>Francisco</dc:creator>
  <dc:description/>
  <dc:language>en-US</dc:language>
  <cp:lastModifiedBy>usuario</cp:lastModifiedBy>
  <dcterms:modified xsi:type="dcterms:W3CDTF">2014-01-05T09:21:08Z</dcterms:modified>
  <cp:revision>11</cp:revision>
  <dc:subject/>
  <dc:title>Diapositiva 1</dc:title>
</cp:coreProperties>
</file>