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1DB8-651C-4FCC-BC58-85607964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6D20-93DC-449A-9283-778E6BE8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F389-CB2C-4A85-BA9C-26B6EC7B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835-C7B2-449F-83DF-A387EDA2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5ED6-1ADF-4280-9790-483C0EA7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FF4F-D679-4478-9F45-C09B100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0108-8A18-43B8-A136-9AA7625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F06-7F7C-4F67-A902-CA187996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A02F-277C-4295-BEA4-BD8DBA28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E8C8-974F-474D-9C43-B05DE9FE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19E3-FA27-49A7-85DD-B17000F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3B2E-88E1-4F0D-A709-F93CFCF6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8173-2286-4902-B0E9-9055D0EA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C547-A6EA-4980-ADD4-03067DF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14D2-4ED8-455E-91C0-BE0A77E4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C601-1655-49ED-8342-0D6C1CB2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A93A-A866-42B8-AE1E-D72F0D1E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2738-1178-4C1C-8C53-6F52A43A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42ABF-8DB7-452D-826D-77970F87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F579-E2E1-478D-91C5-5DDC8E370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134D0-0AE7-4364-A777-23476AB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B9135-20B9-4A48-8724-E57723B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E56-588C-48A3-961A-763900C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AD30F-D833-43BD-BFAF-0BCCDF6E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7158-9314-4AFF-BD8F-560B1FA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BBDD-4DA4-4566-9E8D-3C8DB354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B62C-D036-4387-9533-BCE6BC61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B90A-CB22-4834-9379-738E9B34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4BD2-9D7B-492E-B80D-D6259101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2DBE-6C92-4603-965C-7EA0C510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B1C88-471D-4C1D-AFE2-345FBA3F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0EAF-175D-4516-A43F-A8B92DC4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FF87-1F32-4DE1-86D4-4FE48F0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7E8-8969-4995-96E4-A4E36C6E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CC0B-BCCF-419A-A83B-C8BD05D9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E831-FA0D-4399-B3D5-4F6B8912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710B-6EEC-47A5-96D9-4EE2FB1B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17D4E-BF14-49A6-8B2B-5BEF3866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64712-1DB2-4C7A-900B-77E64187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AE2B-1407-4A69-BE90-91DDF1CD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5507-7DCC-4056-9619-3C801715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25056-76A1-4BD1-BD9B-C850C82E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EA678-DDB5-4E61-B2D8-7DA6A3F9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684-C2AB-4986-B6BE-152DF68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38F9-AE12-4B0C-9DFE-E760B30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13B-0E38-48D2-B801-BFD67C25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4FD-9EC0-47D3-BE02-EBF6733C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55C-F3F3-4987-84E3-634E79B9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3B7B-D4B8-4CD2-A73A-C1C2C40550D6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C7A-8962-4FDA-83A1-34B19B2259C9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63F-83EE-4A69-8946-3E38C44B7091}" type="slidenum">
              <a:rPr b="0" lang="es-E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A01-D363-42EA-ABB5-09527E8BAB7B}" type="slidenum">
              <a:rPr b="0" lang="es-E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428760" y="1357200"/>
            <a:ext cx="842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municación y evolución y Futuro d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¨Historia Internet:  Nacimiento 1-11-69 como red conmutación de paqu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riunfo de la Univers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orreo electró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bles por IP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WEB:    Primera década    WEB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egunda Década   WEB 2.0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Tercera Década      WEB 3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2 CuadroTexto"/>
          <p:cNvSpPr/>
          <p:nvPr/>
        </p:nvSpPr>
        <p:spPr>
          <a:xfrm>
            <a:off x="714240" y="1643040"/>
            <a:ext cx="778680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reguntas sobre  el futur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fís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s 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Nueva Red lógi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físico a lo lógi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o técnico a lo soci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Gratuita o de pag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s universida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2 CuadroTexto"/>
          <p:cNvSpPr/>
          <p:nvPr/>
        </p:nvSpPr>
        <p:spPr>
          <a:xfrm>
            <a:off x="571680" y="128592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volución técnica hacia la WEB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SEMÁNTICA: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ntologías, metadatos, RDF, OWL,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Se reduce la acción human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Perso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Máquina-máquina-pers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3 eras: 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agrícola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50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acional-Industri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500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ndial-Informacional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   50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Fin y paso 4ª e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CuadroTexto"/>
          <p:cNvSpPr/>
          <p:nvPr/>
        </p:nvSpPr>
        <p:spPr>
          <a:xfrm>
            <a:off x="714240" y="1214280"/>
            <a:ext cx="821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no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WEB 4.0?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abidurí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De la locura de las masas a la sabiduría de las multitud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Hacia  el  “global brain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Paul Fleming:  “La WEB 3.0 es un cambio de paradigma de páginas planas a una red de espacios, vivencias y autonomía del usuar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2 CuadroTexto"/>
          <p:cNvSpPr/>
          <p:nvPr/>
        </p:nvSpPr>
        <p:spPr>
          <a:xfrm>
            <a:off x="428760" y="1143000"/>
            <a:ext cx="8358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a la WEB 3.0 MÁS LOCAL O GLOB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oc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lobal-descentr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Igual evolución sistemas de información-informática en las 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os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0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2 CuadroTexto"/>
          <p:cNvSpPr/>
          <p:nvPr/>
        </p:nvSpPr>
        <p:spPr>
          <a:xfrm>
            <a:off x="571680" y="1143000"/>
            <a:ext cx="8143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Unidad de med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G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Reduce las fronteras entre lo real y lo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lors Reig Hernández:   “El mundo y la WEB una sola cos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Doc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Co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Opi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ctuar  (PAUTA 3.0/UHU)        http://www.uhu.es/pau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CuadroTexto"/>
          <p:cNvSpPr/>
          <p:nvPr/>
        </p:nvSpPr>
        <p:spPr>
          <a:xfrm>
            <a:off x="5786280" y="6396120"/>
            <a:ext cx="335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Hacia una Nueva Internet: WEB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tantia"/>
              </a:rPr>
              <a:t>Francisco José Martín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2 CuadroTexto"/>
          <p:cNvSpPr/>
          <p:nvPr/>
        </p:nvSpPr>
        <p:spPr>
          <a:xfrm>
            <a:off x="642960" y="1428840"/>
            <a:ext cx="8072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N-FORMACIÓN, FORMACIÓN EN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ducación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1.0  profesor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2.0  alumnos-alumn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ESCR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web 3.0  todos-todos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ASOC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¿Será bueno para las universidad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000"/>
                </a:solidFill>
                <a:latin typeface="Constantia"/>
              </a:rPr>
              <a:t>Este es nuestro 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nstantia"/>
              </a:rPr>
              <a:t>Muchas gra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3 CuadroTexto"/>
          <p:cNvSpPr/>
          <p:nvPr/>
        </p:nvSpPr>
        <p:spPr>
          <a:xfrm>
            <a:off x="1285920" y="1285920"/>
            <a:ext cx="69292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eb80a"/>
                </a:solidFill>
                <a:latin typeface="Constantia"/>
              </a:rPr>
              <a:t>Hacia una Nueva Internet: WEB 3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Francisco José Martínez Lóp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Universidad de Hue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eb80a"/>
                </a:solidFill>
                <a:latin typeface="Constantia"/>
              </a:rPr>
              <a:t>Huelva 14 de enero de 2014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1:42:34Z</dcterms:created>
  <dc:creator>Francisco</dc:creator>
  <dc:description/>
  <dc:language>en-US</dc:language>
  <cp:lastModifiedBy>usuario</cp:lastModifiedBy>
  <dcterms:modified xsi:type="dcterms:W3CDTF">2014-01-05T09:21:08Z</dcterms:modified>
  <cp:revision>11</cp:revision>
  <dc:subject/>
  <dc:title>Diapositiva 1</dc:title>
</cp:coreProperties>
</file>