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0F3-761D-4E7A-A7B5-2003B21A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990-4127-40BD-A690-648FA79F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78A-665B-4891-A860-4DC47483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B1F-06B4-42F1-920B-66D281DE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2080-5FCE-47FD-84E8-377ABC33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0597-07FB-49E8-90ED-E3929542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B6F5-4324-4E6D-8803-1B15042D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8EEB-9510-4CE3-8083-841E10CC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C711-805B-4CF6-9546-4040050C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B0F1-5F2B-47E5-BBC4-34C8CA2F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7E6E-999B-4EB5-B872-1586A5E4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EB7-19E6-4897-8CB3-B7B28230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9248-C3D2-40D2-AAFD-B0584362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26EB-80EA-43AF-9ABB-E520F21D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DC65-C9D9-4A2C-902F-C22A7169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2D5D-01D8-474F-89C7-CB38D25F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412F-674A-406D-9781-F121D97A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2E4DA-67F0-44F6-97DE-F99677E7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B63B2-0142-4D62-9D34-530EEA73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0469F-C1E8-4541-A613-B1FF2445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276B-787D-41E6-9BAA-551586A5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B697-8C94-4ED7-AB76-D8569EFD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2AB-75A2-44F0-A821-C32B294C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7FB8-E1D7-47A2-829E-570472BD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C70F-716E-404E-A6B3-9AF6B880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1D418-CC43-4659-B00D-802FC759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43025-AFEB-4FDC-9D42-A948FE88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0ADF-FB15-4A9A-A2B5-0B70A62C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23678-92B3-4504-9D4B-CCB2C4B3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B999-7542-4D06-B21D-F491747B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83861-274A-49D6-9F6E-8CB7EACB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39909-56D8-436D-A654-14BDB031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58407-D2D0-4258-8C4B-2B64A5C0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869-2A9E-45BC-AAB3-54845145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9790F-EA67-4F23-9073-211B1878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646C-C54D-45B8-AF1F-4EC2EBCA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80558-D24A-4FA2-A7C4-E7E2CB72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30E3-8669-48E5-A107-C13C382E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AFD28-D2F6-4532-9CF5-8CE01BD9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D5AAA-74C5-43DF-AA29-F078F09A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6AC2-5FDE-4A08-967B-8D91F28F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3F5EF-7A46-4BD4-AB65-68706C2B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8A4F0-07E2-4C27-9E35-A802CFF9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E56-EFE2-4072-A71E-2B94F6E2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F05-6892-4EEE-B0DA-CE9E6DA2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2F6-80DA-40B6-BF87-BEE21817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DC0-559B-46C0-AA38-2064A028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B57-F00F-4352-8D13-1595BD29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55C8-61FE-470C-9F5A-2F655C1F2C46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7EC6-4145-4083-B6C8-1C1FD712035F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CA46-9976-4C57-BA57-66886FEEF7DA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A603-CB9B-4831-95DD-AB6D7015170C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CuadroTexto"/>
          <p:cNvSpPr/>
          <p:nvPr/>
        </p:nvSpPr>
        <p:spPr>
          <a:xfrm>
            <a:off x="428760" y="135720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municación y evolución y Futuro d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¨Historia Internet:  Nacimiento 1-11-69 como red conmuta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unfo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rreo 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bles por IP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EB:    Primera década    WEB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gunda Década   WEB 2.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ercera Década      WEB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CuadroTexto"/>
          <p:cNvSpPr/>
          <p:nvPr/>
        </p:nvSpPr>
        <p:spPr>
          <a:xfrm>
            <a:off x="714240" y="1643040"/>
            <a:ext cx="77868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reguntas sobre  el futur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fís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s 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lóg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físico a lo lóg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técnico a lo soc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Gratuita o de pa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s universida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 CuadroTexto"/>
          <p:cNvSpPr/>
          <p:nvPr/>
        </p:nvSpPr>
        <p:spPr>
          <a:xfrm>
            <a:off x="571680" y="128592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volución técnica hacia la WEB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SEMÁNTICA: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ntologías, metadatos, RDF, OWL,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e reduce la acción huma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Perso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Máquina-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 eras: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agrícola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0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acional-Industri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5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ndial-Informacion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50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Fin y paso 4ª e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 CuadroTexto"/>
          <p:cNvSpPr/>
          <p:nvPr/>
        </p:nvSpPr>
        <p:spPr>
          <a:xfrm>
            <a:off x="714240" y="121428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WEB 4.0?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abidur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 locura de las masas a la sabiduría de las multitu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Hacia  el  “global brain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aul Fleming:  “La WEB 3.0 es un cambio de paradigma de páginas planas a una red de espacios, vivencias y autonomía del usuar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 CuadroTexto"/>
          <p:cNvSpPr/>
          <p:nvPr/>
        </p:nvSpPr>
        <p:spPr>
          <a:xfrm>
            <a:off x="428760" y="11430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a la WEB 3.0 MÁS LOCAL O GLOB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gual evolución sistemas de información-informática en las 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 CuadroTexto"/>
          <p:cNvSpPr/>
          <p:nvPr/>
        </p:nvSpPr>
        <p:spPr>
          <a:xfrm>
            <a:off x="571680" y="114300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Unidad de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Reduce las fronteras entre lo real y lo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lors Reig Hernández:   “El mundo y la WEB una sola co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ctuar  (PAUTA 3.0/UHU)        http://www.uhu.es/pau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 CuadroTexto"/>
          <p:cNvSpPr/>
          <p:nvPr/>
        </p:nvSpPr>
        <p:spPr>
          <a:xfrm>
            <a:off x="642960" y="142884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-FORMACIÓN, FORMACIÓN E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ducación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profesor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alumnos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SCR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todos-tod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SO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á bueno para las universidad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Constantia"/>
              </a:rPr>
              <a:t>Este es nuestro 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1:42:34Z</dcterms:created>
  <dc:creator>Francisco</dc:creator>
  <dc:description/>
  <dc:language>en-US</dc:language>
  <cp:lastModifiedBy>usuario</cp:lastModifiedBy>
  <dcterms:modified xsi:type="dcterms:W3CDTF">2014-01-05T09:21:08Z</dcterms:modified>
  <cp:revision>11</cp:revision>
  <dc:subject/>
  <dc:title>Diapositiva 1</dc:title>
</cp:coreProperties>
</file>