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EE9-204B-408F-8E84-68BE84FC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D29F-EE7B-4FB9-B860-C9EDC661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FA8-E001-4D78-8506-BD93A3AD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4AA-5F96-404C-AAEF-5A669F01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BF60-9CE4-4F25-83CC-55AD078B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D365-0650-4044-8012-B4343ABE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2D89-07CC-49C8-87B6-01418601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42DB-4F6E-4E28-8E1A-E947FF2C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3EC5-EE1C-4E72-B5A7-FD3A9400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ED97-7365-41A6-831D-69B06792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68DF-F491-4FF8-9652-C13A039A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909-9598-449B-A79B-638C1C67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F09A-ECB1-4513-8BCE-E7BEEB50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E7DC-E290-4C2C-BE94-185E1D5F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B535-FB40-419D-890D-AA075A23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2943-9DFD-42F7-9688-970C8C35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2F4D-13AD-4AA1-AFE7-83995228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EB5F1-F491-4120-B7E0-4A3CF54D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D1A94-3B1D-4280-9D98-B55266AD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ED7D4-1743-468E-9606-93C5A0A3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ECF64-8687-42AA-9B27-0D6AECFF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B405-C3C6-4EF6-9A31-541F9B32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7BB-099D-4C93-A1C1-BF3328FB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44788-0AB7-47AF-8DEB-427BC284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F3132-0528-41D2-949C-C2F2B9DB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CBC93-6F3B-48A7-BBD6-DC654CED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3A622-44B5-46B7-BC15-3911EE77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EE7EC-4B83-4D5B-8716-1658CD18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3CB74-521B-414F-A15F-7712C547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49616-A95B-4882-96E3-8146FA00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3026F-99EE-404D-A61D-1DDF6DDA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4F1B8-0C9F-41E8-908D-D64159CC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A8164-FA7B-4FAC-A8D6-379815E5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F39-8837-438E-80E9-8F6DD0E2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FD35E-EEDA-4A29-8A7B-6F9A6BB9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1821F-F352-47A1-9E2A-43AC99D2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2DBE1-6C9A-4CEC-AE32-F1191D5F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90733-AEA5-47C7-A3DB-D106D9F8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58D64-B77C-4B4C-ACAB-40CBFA89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332B-BF27-46D6-970F-4171CF3C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F74BD-21F3-4620-AD7D-A69DD9AE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3DCE4-518B-4434-A00D-0AD5AD97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F61C-26B5-4186-AF57-B4797BA6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27C-2936-4257-AE06-55599491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5E6-E321-4E98-82C6-6F6D68F2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F86-4B02-428E-B3DB-A2ACD844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7B2-F24E-4231-8FA4-ABAA42D0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E25-B741-45A6-98B5-EBC35835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D3FD-1D37-496C-8024-77870F09548F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A461-F973-4DB2-836D-9764423D6D1B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8837-97F1-4E8F-94C5-5738C7D96AC4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2AE9-F93F-48D0-9758-3CE411A2C7C7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 CuadroTexto"/>
          <p:cNvSpPr/>
          <p:nvPr/>
        </p:nvSpPr>
        <p:spPr>
          <a:xfrm>
            <a:off x="428760" y="1357200"/>
            <a:ext cx="842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municación y evolución y Futuro d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¨Historia Internet:  Nacimiento 1-11-69 como red conmutación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iunfo de la Un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rreo electr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ables por IP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WEB:    Primera década    WEB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gunda Década   WEB 2.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ercera Década      WEB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CuadroTexto"/>
          <p:cNvSpPr/>
          <p:nvPr/>
        </p:nvSpPr>
        <p:spPr>
          <a:xfrm>
            <a:off x="714240" y="1643040"/>
            <a:ext cx="77868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reguntas sobre  el futur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fís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s I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lóg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físico a lo lógi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técnico a lo soc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Gratuita o de pa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s universida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2 CuadroTexto"/>
          <p:cNvSpPr/>
          <p:nvPr/>
        </p:nvSpPr>
        <p:spPr>
          <a:xfrm>
            <a:off x="571680" y="128592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volución técnica hacia la WEB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SEMÁNTICA: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ntologías, metadatos, RDF, OWL,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Se reduce la acción human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Perso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Máquina-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 eras: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agrícola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50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acional-Industri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5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ndial-Informacion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  50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Fin y paso 4ª e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2 CuadroTexto"/>
          <p:cNvSpPr/>
          <p:nvPr/>
        </p:nvSpPr>
        <p:spPr>
          <a:xfrm>
            <a:off x="714240" y="121428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WEB 4.0?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abidur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 locura de las masas a la sabiduría de las multitu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Hacia  el  “global brain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aul Fleming:  “La WEB 3.0 es un cambio de paradigma de páginas planas a una red de espacios, vivencias y autonomía del usuari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 CuadroTexto"/>
          <p:cNvSpPr/>
          <p:nvPr/>
        </p:nvSpPr>
        <p:spPr>
          <a:xfrm>
            <a:off x="428760" y="114300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a la WEB 3.0 MÁS LOCAL O GLOB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gual evolución sistemas de información-informática en las 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os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 CuadroTexto"/>
          <p:cNvSpPr/>
          <p:nvPr/>
        </p:nvSpPr>
        <p:spPr>
          <a:xfrm>
            <a:off x="571680" y="114300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Unidad de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Reduce las fronteras entre lo real y lo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lors Reig Hernández:   “El mundo y la WEB una sola co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ctuar  (PAUTA 3.0/UHU)        http://www.uhu.es/paut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2 CuadroTexto"/>
          <p:cNvSpPr/>
          <p:nvPr/>
        </p:nvSpPr>
        <p:spPr>
          <a:xfrm>
            <a:off x="642960" y="142884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-FORMACIÓN, FORMACIÓN EN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ducación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profesor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alumnos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SCRIB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todos-tod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SO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á bueno para las universidad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Constantia"/>
              </a:rPr>
              <a:t>Este es nuestro 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chas gra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1:42:34Z</dcterms:created>
  <dc:creator>Francisco</dc:creator>
  <dc:description/>
  <dc:language>en-US</dc:language>
  <cp:lastModifiedBy>usuario</cp:lastModifiedBy>
  <dcterms:modified xsi:type="dcterms:W3CDTF">2014-01-05T09:21:08Z</dcterms:modified>
  <cp:revision>11</cp:revision>
  <dc:subject/>
  <dc:title>Diapositiva 1</dc:title>
</cp:coreProperties>
</file>