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B89E-5B18-48F8-8DFF-319157A52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58B7-47AC-456D-9B47-211BB968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CB4D-220F-453E-A2CD-8D134D33E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4ABD-B0CD-466F-8BAE-E416A76FF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085A-9B4B-4F72-A6AE-316336FD1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26345-A77F-4E63-9B46-D38A2EFD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A864F-0CAB-48EF-BEB8-C72AC673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E781-7DC9-4A5C-9D25-566691A7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14C1-845E-403E-8F45-52969BA1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AAB94-34C1-4276-89B7-27F2E38E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4910B-4B78-484D-9BDE-997A74FB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3C2D-576A-40B2-991D-278EB970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0FBC-4748-4509-9F2F-2C429A6A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CF38-4B8A-4A9E-B492-4F4E9A8F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9982-955F-4A51-BC02-08332A43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DD73-1914-4798-9ED6-751A4A320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3AEE-C4C6-407B-B711-006F859A3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D95C5-6228-4DA3-BC2A-5DA0F22D4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5BE56-6873-4574-B452-3483D8FE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390F0-9049-4945-8C3A-92E29A2A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A6FA4-FDA8-4806-A91C-6D406A8A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491B0-9973-4F6F-B85D-A6D15CBA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E1CB-CFF1-4BF0-BB8D-F9A0FB03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1459D-EBE3-422F-A07B-D2D7FCF5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3D083-80D7-4C00-8C98-5BFA8F2B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B11AF-3E26-4F61-A75B-9BC04864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5B3A2-0E26-47D0-9313-5DFE7C73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A9491-9168-4DA0-92CC-9820D497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6AC29-0A2C-4A37-B70D-381CD2D37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48576-3C51-40ED-8424-5574AA67A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46D08-3213-43B0-ACDC-E86B84E00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E4140-1E62-4CC2-B80D-06D2BD63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739E6-1557-45D5-A26D-44B091C3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0A5F-052A-4A83-A26C-931AB090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20C33-C244-446C-B8BC-EA1D1E21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DEEF0-438C-4BE2-87E8-D74F7370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9328E-1520-4ABB-A0AF-837AF5C4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60B61-0CE3-4ADA-99C4-E815D475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E7A46-3661-467E-BAE9-9A7401D9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75069-EEF9-4FC0-86BB-2B849A63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277D2-D81A-4C6F-A490-8B02BADD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CF192-5EA1-44D7-8516-B580DF1E1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45422-4615-4FF6-86A5-184CD628C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CCB4-192E-4B6D-A38C-F7759634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7337-E295-4232-8314-9DE9B276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B721-09F5-4A5C-90ED-FBE92120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9977-4A5C-4834-AF26-3E04E5C1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D56C-3B6E-4E44-9DB1-304D3DCB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a566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29C1-4948-4ADE-8F63-9831DF864B60}" type="slidenum">
              <a:rPr b="0" lang="es-ES" sz="1200" spc="-1" strike="noStrike">
                <a:solidFill>
                  <a:srgbClr val="4a566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cce1f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e1f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cce1f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5E6D-C44B-4681-B830-AC04CE44341E}" type="slidenum">
              <a:rPr b="0" lang="es-ES" sz="1200" spc="-1" strike="noStrike">
                <a:solidFill>
                  <a:srgbClr val="cce1f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cce1f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e1f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cce1f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3E64-420B-4BB7-A1A1-03F80435BCC5}" type="slidenum">
              <a:rPr b="0" lang="es-ES" sz="1200" spc="-1" strike="noStrike">
                <a:solidFill>
                  <a:srgbClr val="cce1f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a566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680A-65B9-4262-8AF6-DABF10F7452A}" type="slidenum">
              <a:rPr b="0" lang="es-ES" sz="1200" spc="-1" strike="noStrike">
                <a:solidFill>
                  <a:srgbClr val="4a566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3 CuadroTexto"/>
          <p:cNvSpPr/>
          <p:nvPr/>
        </p:nvSpPr>
        <p:spPr>
          <a:xfrm>
            <a:off x="1285920" y="1285920"/>
            <a:ext cx="692928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eb80a"/>
                </a:solidFill>
                <a:latin typeface="Constantia"/>
              </a:rPr>
              <a:t>Hacia una Nueva Internet: WEB 3.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eb80a"/>
                </a:solidFill>
                <a:latin typeface="Constantia"/>
              </a:rPr>
              <a:t>Francisco José Martínez Lóp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eb80a"/>
                </a:solidFill>
                <a:latin typeface="Constantia"/>
              </a:rPr>
              <a:t>Universidad de Hue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eb80a"/>
                </a:solidFill>
                <a:latin typeface="Constantia"/>
              </a:rPr>
              <a:t>Huelva 14 de enero de 2014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2 CuadroTexto"/>
          <p:cNvSpPr/>
          <p:nvPr/>
        </p:nvSpPr>
        <p:spPr>
          <a:xfrm>
            <a:off x="428760" y="1357200"/>
            <a:ext cx="8429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municación y evolución y Futuro d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¨Historia Internet:  Nacimiento 1-11-69 como red conmutación de paqu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Triunfo de la Univers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rreo electró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ables por IP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WEB:    Primera década    WEB 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egunda Década   WEB 2.0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Tercera Década      WEB 3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2 CuadroTexto"/>
          <p:cNvSpPr/>
          <p:nvPr/>
        </p:nvSpPr>
        <p:spPr>
          <a:xfrm>
            <a:off x="714240" y="1643040"/>
            <a:ext cx="7786800" cy="43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Preguntas sobre  el futuro de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Nueva red físic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Nuevas I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Nueva Red lógic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De lo físico a lo lógic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De lo técnico a lo soci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Gratuita o de pag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De las universidad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2 CuadroTexto"/>
          <p:cNvSpPr/>
          <p:nvPr/>
        </p:nvSpPr>
        <p:spPr>
          <a:xfrm>
            <a:off x="571680" y="1285920"/>
            <a:ext cx="8072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Evolución técnica hacia la WEB 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SEMÁNTICA: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Ontologías, metadatos, RDF, OWL, 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Se reduce la acción humana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  Máquina-Pers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  Persona-Pers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  Máquina-máquina-pers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3 eras: 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local-agrícola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5000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Nacional-Industrial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  500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Mundial-Informacional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    50 añ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Fin y paso 4ª er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2 CuadroTexto"/>
          <p:cNvSpPr/>
          <p:nvPr/>
        </p:nvSpPr>
        <p:spPr>
          <a:xfrm>
            <a:off x="714240" y="1214280"/>
            <a:ext cx="8215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Cono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WEB 4.0?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Sabidurí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De la locura de las masas a la sabiduría de las multitud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Hacia  el  “global brain”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Paul Fleming:  “La WEB 3.0 es un cambio de paradigma de páginas planas a una red de espacios, vivencias y autonomía del usuari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2 CuadroTexto"/>
          <p:cNvSpPr/>
          <p:nvPr/>
        </p:nvSpPr>
        <p:spPr>
          <a:xfrm>
            <a:off x="428760" y="1143000"/>
            <a:ext cx="83581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LOCAL-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Sera la WEB 3.0 MÁS LOCAL O GLOB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Global-centr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local-descentr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Global-descentr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Igual evolución sistemas de información-informática en las empre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E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Noso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2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2 CuadroTexto"/>
          <p:cNvSpPr/>
          <p:nvPr/>
        </p:nvSpPr>
        <p:spPr>
          <a:xfrm>
            <a:off x="571680" y="1143000"/>
            <a:ext cx="8143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Unidad de med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G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 Reduce las fronteras entre lo real y lo vir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Dolors Reig Hernández:   “El mundo y la WEB una sola cos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Docu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Opin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Co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Opi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Actuar  (PAUTA 3.0/UHU)        http://www.uhu.es/paut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20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0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0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2 CuadroTexto"/>
          <p:cNvSpPr/>
          <p:nvPr/>
        </p:nvSpPr>
        <p:spPr>
          <a:xfrm>
            <a:off x="642960" y="1428840"/>
            <a:ext cx="8072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N-FORMACIÓN, FORMACIÓN EN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Educación 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  profesor-alumnos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L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  alumnos-alumnos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ESCRIB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  todos-todos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ASOCI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Será bueno para las universidade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000"/>
                </a:solidFill>
                <a:latin typeface="Constantia"/>
              </a:rPr>
              <a:t>Este es nuestro r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Muchas gra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2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3 CuadroTexto"/>
          <p:cNvSpPr/>
          <p:nvPr/>
        </p:nvSpPr>
        <p:spPr>
          <a:xfrm>
            <a:off x="1285920" y="1285920"/>
            <a:ext cx="692928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eb80a"/>
                </a:solidFill>
                <a:latin typeface="Constantia"/>
              </a:rPr>
              <a:t>Hacia una Nueva Internet: WEB 3.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eb80a"/>
                </a:solidFill>
                <a:latin typeface="Constantia"/>
              </a:rPr>
              <a:t>Francisco José Martínez Lóp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eb80a"/>
                </a:solidFill>
                <a:latin typeface="Constantia"/>
              </a:rPr>
              <a:t>Universidad de Hue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eb80a"/>
                </a:solidFill>
                <a:latin typeface="Constantia"/>
              </a:rPr>
              <a:t>Huelva 14 de enero de 2014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21:42:34Z</dcterms:created>
  <dc:creator>Francisco</dc:creator>
  <dc:description/>
  <dc:language>en-US</dc:language>
  <cp:lastModifiedBy>usuario</cp:lastModifiedBy>
  <dcterms:modified xsi:type="dcterms:W3CDTF">2014-01-05T09:21:08Z</dcterms:modified>
  <cp:revision>11</cp:revision>
  <dc:subject/>
  <dc:title>Diapositiva 1</dc:title>
</cp:coreProperties>
</file>