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EA5C-C5E2-41EB-87F2-6E024DE22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AE30-EDE9-4ACF-B2CF-F404F203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11F5-374D-49F1-A0DC-D1B605075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2A7C-5A64-42FE-9DFE-5DA18D115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C71F-B448-4D1F-B9E7-8368BA3EA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4C9F-3AFF-4917-890A-CEE03060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A906-71CD-49EF-9BC0-3B77A833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0748-FF5F-4A3C-B984-FA84DBE3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31E8-B255-4070-942D-EAF47A55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5F62E-C9B3-4445-95D2-595261C5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4601-F9B4-41C7-A6A6-677CFADF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6C16-85D7-496A-BDF7-3758F252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687E-2D59-4BA6-8951-D92F7D0B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16170-3675-4E3E-B7F0-DC4DD93C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239D-565F-4E29-932E-9D052F32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C7820-45AE-46C0-B0F6-F00173A87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AB61-DD01-439A-AF44-5D4D65E63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051AC-4E13-4A9E-831F-BEBDE8956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1BE11-F4DA-4715-B7D1-189335E7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59295-FD50-47E5-9170-206C76AA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D75D5-F2FB-4C62-A252-52374437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F94A4-D52F-4F9A-99CC-74B3E0D0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16FA-C3FF-42CA-950F-D82C3E75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02501-8A52-4ED3-B873-B6E46EBB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76F7F-6CDF-43E5-9E71-5A56DA91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C64BA-FB86-49AB-BEFA-320EB86C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EE5E9-DE61-4B01-A636-D9BCD41F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A256C-3E18-4F32-A9FE-DDF04091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8DB57-1771-45C6-92F0-0B85ABFC6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2ADFB-4CC3-4578-8334-2860804E3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BBA98-5496-4F48-B43C-B916A2BF6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2165F-936E-4876-9625-E0AFDF29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FB29A-A208-48F5-8A7F-8E08FF5E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0C88-AAB4-498F-815A-BF10C649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7B65E-FADD-40B8-B60E-C950A1B6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EA04A-C0F6-4F84-BD76-31FA6DC6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C9D60-A37A-4599-821D-E756DB02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FF6D4-27E8-4E66-B406-1B1B3B23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5D57E-830E-4EF9-8DA2-93559F24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C4798-9790-4A05-A73D-89C3F9A3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B6CED-E78D-49E7-B54F-85D1B728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7ABCE-A629-4DE2-933D-2D12B7473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0A6AD-52E6-474B-81EE-20FD096B2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470B-EB20-4375-A368-1E2ACDFB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AB9C-9EB9-4077-96C2-1C8ED807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CC0E-C306-4B03-A7D0-ADEDBDDB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0D8D-C012-4C13-B1C6-8854F8BB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9C9A-B4FF-4BE8-8199-696E482D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a566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AE37-3BDD-43B7-A973-A57D58AC460E}" type="slidenum">
              <a:rPr b="0" lang="es-ES" sz="1200" spc="-1" strike="noStrike">
                <a:solidFill>
                  <a:srgbClr val="4a566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cce1f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e1f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cce1f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3972-B158-408F-BCF3-DD3DC1D9857C}" type="slidenum">
              <a:rPr b="0" lang="es-ES" sz="1200" spc="-1" strike="noStrike">
                <a:solidFill>
                  <a:srgbClr val="cce1f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cce1f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e1f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cce1f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E1FF-1E2D-4B8E-9E15-FA506092B058}" type="slidenum">
              <a:rPr b="0" lang="es-ES" sz="1200" spc="-1" strike="noStrike">
                <a:solidFill>
                  <a:srgbClr val="cce1f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a566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BA58-797B-4DCE-9BAF-CFB2E82A6533}" type="slidenum">
              <a:rPr b="0" lang="es-ES" sz="1200" spc="-1" strike="noStrike">
                <a:solidFill>
                  <a:srgbClr val="4a566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3 CuadroTexto"/>
          <p:cNvSpPr/>
          <p:nvPr/>
        </p:nvSpPr>
        <p:spPr>
          <a:xfrm>
            <a:off x="1285920" y="1285920"/>
            <a:ext cx="692928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eb80a"/>
                </a:solidFill>
                <a:latin typeface="Constantia"/>
              </a:rPr>
              <a:t>Hacia una Nueva Internet: WEB 3.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eb80a"/>
                </a:solidFill>
                <a:latin typeface="Constantia"/>
              </a:rPr>
              <a:t>Francisco José Martínez Lóp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eb80a"/>
                </a:solidFill>
                <a:latin typeface="Constantia"/>
              </a:rPr>
              <a:t>Universidad de Hue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eb80a"/>
                </a:solidFill>
                <a:latin typeface="Constantia"/>
              </a:rPr>
              <a:t>Huelva 14 de enero de 2014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2 CuadroTexto"/>
          <p:cNvSpPr/>
          <p:nvPr/>
        </p:nvSpPr>
        <p:spPr>
          <a:xfrm>
            <a:off x="428760" y="1357200"/>
            <a:ext cx="8429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municación y evolución y Futuro d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¨Historia Internet:  Nacimiento 1-11-69 como red conmutación de paqu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Triunfo de la Univers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rreo electró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ables por IP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WEB:    Primera década    WEB 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egunda Década   WEB 2.0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Tercera Década      WEB 3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2 CuadroTexto"/>
          <p:cNvSpPr/>
          <p:nvPr/>
        </p:nvSpPr>
        <p:spPr>
          <a:xfrm>
            <a:off x="714240" y="1643040"/>
            <a:ext cx="7786800" cy="43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Preguntas sobre  el futuro de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Nueva red físic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Nuevas I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Nueva Red lógic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De lo físico a lo lógic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De lo técnico a lo soci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Gratuita o de pag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De las universidad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2 CuadroTexto"/>
          <p:cNvSpPr/>
          <p:nvPr/>
        </p:nvSpPr>
        <p:spPr>
          <a:xfrm>
            <a:off x="571680" y="1285920"/>
            <a:ext cx="8072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Evolución técnica hacia la WEB 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SEMÁNTICA: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Ontologías, metadatos, RDF, OWL, 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Se reduce la acción humana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  Máquina-Pers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  Persona-Pers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  Máquina-máquina-pers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3 eras: 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local-agrícola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5000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Nacional-Industrial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  500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Mundial-Informacional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    50 añ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Fin y paso 4ª er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2 CuadroTexto"/>
          <p:cNvSpPr/>
          <p:nvPr/>
        </p:nvSpPr>
        <p:spPr>
          <a:xfrm>
            <a:off x="714240" y="1214280"/>
            <a:ext cx="8215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Cono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WEB 4.0?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Sabidurí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De la locura de las masas a la sabiduría de las multitud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Hacia  el  “global brain”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Paul Fleming:  “La WEB 3.0 es un cambio de paradigma de páginas planas a una red de espacios, vivencias y autonomía del usuari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2 CuadroTexto"/>
          <p:cNvSpPr/>
          <p:nvPr/>
        </p:nvSpPr>
        <p:spPr>
          <a:xfrm>
            <a:off x="428760" y="1143000"/>
            <a:ext cx="83581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LOCAL-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Sera la WEB 3.0 MÁS LOCAL O GLOB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Global-centr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local-descentr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Global-descentr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Igual evolución sistemas de información-informática en las empre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E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Noso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2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2 CuadroTexto"/>
          <p:cNvSpPr/>
          <p:nvPr/>
        </p:nvSpPr>
        <p:spPr>
          <a:xfrm>
            <a:off x="571680" y="1143000"/>
            <a:ext cx="8143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Unidad de med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G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 Reduce las fronteras entre lo real y lo vir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Dolors Reig Hernández:   “El mundo y la WEB una sola cos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Docu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Opin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Co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Opi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Actuar  (PAUTA 3.0/UHU)        http://www.uhu.es/paut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20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0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0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2 CuadroTexto"/>
          <p:cNvSpPr/>
          <p:nvPr/>
        </p:nvSpPr>
        <p:spPr>
          <a:xfrm>
            <a:off x="642960" y="1428840"/>
            <a:ext cx="8072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N-FORMACIÓN, FORMACIÓN EN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Educación 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  profesor-alumnos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L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  alumnos-alumnos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ESCRIB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  todos-todos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ASOCI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Será bueno para las universidade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000"/>
                </a:solidFill>
                <a:latin typeface="Constantia"/>
              </a:rPr>
              <a:t>Este es nuestro r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Muchas gra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2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3 CuadroTexto"/>
          <p:cNvSpPr/>
          <p:nvPr/>
        </p:nvSpPr>
        <p:spPr>
          <a:xfrm>
            <a:off x="1285920" y="1285920"/>
            <a:ext cx="692928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eb80a"/>
                </a:solidFill>
                <a:latin typeface="Constantia"/>
              </a:rPr>
              <a:t>Hacia una Nueva Internet: WEB 3.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eb80a"/>
                </a:solidFill>
                <a:latin typeface="Constantia"/>
              </a:rPr>
              <a:t>Francisco José Martínez Lóp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eb80a"/>
                </a:solidFill>
                <a:latin typeface="Constantia"/>
              </a:rPr>
              <a:t>Universidad de Hue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eb80a"/>
                </a:solidFill>
                <a:latin typeface="Constantia"/>
              </a:rPr>
              <a:t>Huelva 14 de enero de 2014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21:42:34Z</dcterms:created>
  <dc:creator>Francisco</dc:creator>
  <dc:description/>
  <dc:language>en-US</dc:language>
  <cp:lastModifiedBy>usuario</cp:lastModifiedBy>
  <dcterms:modified xsi:type="dcterms:W3CDTF">2014-01-05T09:21:08Z</dcterms:modified>
  <cp:revision>11</cp:revision>
  <dc:subject/>
  <dc:title>Diapositiva 1</dc:title>
</cp:coreProperties>
</file>